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1E8-1C6E-4537-8079-E0CB6E3E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C35-3DC6-45C5-B24F-2D9B5B5B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9EC-FCDB-4F3F-9EFC-9FB4172D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419-92F6-4073-A5D3-7C8B43EC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8029-9A50-42C7-9777-25DC3397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0206-F9B7-4642-9C4E-F5EFC471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4F03-4225-4FA3-BFEC-7082D213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A961-C8B6-481C-BCC5-0DE7EB44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E87F-5A70-49E1-BA51-8E4351E6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36EE-BF53-4CBC-8CAD-C66055FD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0B42-D751-4EBD-B9FF-B95B253D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179-37D9-4A39-AE32-53B51E25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FAF2-3652-4AC9-AD35-02045EFC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67CE-D172-43B8-8DB3-AA802FA9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8941-772B-4836-B245-7E0D3CA8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4F51-7219-4EB6-995E-FDD7AC42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82FD-DE2F-4A38-ACFE-259EF261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40A8-6382-4C03-B1E1-E8E4DB5F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B23-4EF7-4B0E-BB1F-3F87CD79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043-D057-4CAD-9D37-5D7D98DB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34E-EE9D-444C-B252-955FC13D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9FF-2029-475E-8DE3-C4A63EBA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0AE-ED23-41B2-8EA4-936AA136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923-3DEC-4764-B335-5E25F979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9c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c79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E323-14D8-4026-BB7C-B0744559CCFA}" type="slidenum">
              <a:rPr b="0" lang="en-US" sz="1400" spc="-1" strike="noStrike">
                <a:solidFill>
                  <a:srgbClr val="e9c79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My Documents\My Webs\soniacoleman\PowerPoint Templates\Templates6\Black Frame\blackframe_titleframe.jpg"/>
          <p:cNvPicPr/>
          <p:nvPr/>
        </p:nvPicPr>
        <p:blipFill>
          <a:blip r:embed="rId3"/>
          <a:stretch/>
        </p:blipFill>
        <p:spPr>
          <a:xfrm>
            <a:off x="1200240" y="1371600"/>
            <a:ext cx="6877080" cy="2114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9c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c79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1D85-7732-4729-B1E1-99AF36228A3E}" type="slidenum">
              <a:rPr b="0" lang="en-US" sz="1400" spc="-1" strike="noStrike">
                <a:solidFill>
                  <a:srgbClr val="e9c79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ultiples and Factors</a:t>
            </a:r>
            <a:endParaRPr b="0" lang="en-US" sz="5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Lesson 4.1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What are the factors of 7?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17524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 x 7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2438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533520" y="2819520"/>
            <a:ext cx="16002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57200" y="31240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533520" y="3505320"/>
            <a:ext cx="167616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57200" y="38862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457200" y="4267080"/>
            <a:ext cx="18288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457200" y="45720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5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457200" y="4952880"/>
            <a:ext cx="175248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57200" y="52578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6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457200" y="5638680"/>
            <a:ext cx="18288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457200" y="58672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7 x 1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2819520" y="5867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s works, but it is a repeat. We are done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380880" y="6248520"/>
            <a:ext cx="18288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3276720" y="167652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only factors of 7 are </a:t>
            </a: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1,7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Prime and Composite Number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4114800" cy="3581280"/>
          </a:xfrm>
          <a:prstGeom prst="rect">
            <a:avLst/>
          </a:prstGeom>
          <a:noFill/>
          <a:ln w="9360">
            <a:solidFill>
              <a:srgbClr val="3a02e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03"/>
                </a:solidFill>
                <a:latin typeface="Arial"/>
              </a:rPr>
              <a:t>Prime numbers are 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03"/>
                </a:solidFill>
                <a:latin typeface="Arial"/>
              </a:rPr>
              <a:t>numbers that only have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03"/>
                </a:solidFill>
                <a:latin typeface="Arial"/>
              </a:rPr>
              <a:t>two factors: one, and the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03"/>
                </a:solidFill>
                <a:latin typeface="Arial"/>
              </a:rPr>
              <a:t>number itself.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f7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f7"/>
                </a:solidFill>
                <a:latin typeface="Arial"/>
              </a:rPr>
              <a:t>3, 5, 7, 11, 31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35812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c794"/>
                </a:solidFill>
                <a:latin typeface="Arial"/>
              </a:rPr>
              <a:t>Composite numbers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c794"/>
                </a:solidFill>
                <a:latin typeface="Arial"/>
              </a:rPr>
              <a:t>have more than two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c794"/>
                </a:solidFill>
                <a:latin typeface="Arial"/>
              </a:rPr>
              <a:t>factors.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, 18, 30, 100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Multiple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A multiple is formed by multiplying a given number by the counting numbers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The counting numbers are 1, 2, 3, 4, 5, 6, etc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9c794"/>
                </a:solidFill>
                <a:uFillTx/>
                <a:latin typeface="Arial"/>
              </a:rPr>
              <a:t>Example: List the multiples of 4: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666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1 = 4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2 = 8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3 = 12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4 = 16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5 = 20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6 = 24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219320" y="60958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unting Numbe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Line 5"/>
          <p:cNvSpPr/>
          <p:nvPr/>
        </p:nvSpPr>
        <p:spPr>
          <a:xfrm flipV="1">
            <a:off x="1905120" y="5562360"/>
            <a:ext cx="0" cy="53316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0384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o, the multiples of 4 are 4, 8, 12, 16, 20, 24, 28, etc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What are the first five multiples of 13?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85800" y="2057400"/>
            <a:ext cx="1676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1 =13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2 = 26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3 = 39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4 = 52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5 = 65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00400" y="259092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fff7"/>
                </a:solidFill>
                <a:latin typeface="Times New Roman"/>
              </a:rPr>
              <a:t>13, 26, 39, 52, 65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Find the Missing Multiple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c794"/>
                </a:solidFill>
                <a:latin typeface="Arial"/>
              </a:rPr>
              <a:t>6, 12, 18, ____, ____</a:t>
            </a: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c794"/>
                </a:solidFill>
                <a:latin typeface="Arial"/>
              </a:rPr>
              <a:t>___, 6, 9, 12, ____, ____, 21</a:t>
            </a: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c794"/>
                </a:solidFill>
                <a:latin typeface="Arial"/>
              </a:rPr>
              <a:t>___, 24, 36, 48, 60, ____</a:t>
            </a: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505320" y="13716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876920" y="13716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371600" y="2895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419720" y="28195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791320" y="2819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143000" y="44197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5791320" y="43434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Factor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actors are the numbers you multiply together to get a product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or example, the product 24 has several factors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24 = 1 x 24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24 = 2 x 12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24 = 3 x 8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24 = 4 x 6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O, the factors are 1, 2, 3, 4, 6, 8, 12, 24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Finding Factor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tart with 1 x the number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Try 2, 3, 4, etc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When you repeat your factors, cross out the repeat - you’re done at this point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If you get doubles (such as 4 x 4), then you’re done.  Repeats or doubles let you know you’re done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What are the factors of 16?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09480" y="14479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 x 1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609480" y="2133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x 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609480" y="28195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895480" y="29718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 is not a factor, so cross it ou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609480" y="3124080"/>
            <a:ext cx="18288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609480" y="35812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x 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Line 16"/>
          <p:cNvSpPr/>
          <p:nvPr/>
        </p:nvSpPr>
        <p:spPr>
          <a:xfrm flipH="1">
            <a:off x="2514240" y="39625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267080" y="3733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oubles = don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457200" y="4648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factors of 16 are </a:t>
            </a:r>
            <a:r>
              <a:rPr b="0" lang="en-US" sz="4000" spc="-1" strike="noStrike">
                <a:solidFill>
                  <a:srgbClr val="eded03"/>
                </a:solidFill>
                <a:latin typeface="Arial Black"/>
              </a:rPr>
              <a:t>1,2,4,8,1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What are the factors of 18?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57200" y="16765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 x 1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57200" y="23623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x 9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57200" y="30481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37339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380880" y="4038480"/>
            <a:ext cx="20574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57200" y="4419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5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380880" y="4724280"/>
            <a:ext cx="19814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57200" y="5105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6 x 3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Line 11"/>
          <p:cNvSpPr/>
          <p:nvPr/>
        </p:nvSpPr>
        <p:spPr>
          <a:xfrm flipH="1">
            <a:off x="2285640" y="5334120"/>
            <a:ext cx="20574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495680" y="5105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peat! Cross it out! We’re done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380880" y="5410080"/>
            <a:ext cx="17528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3809880" y="182880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factors are </a:t>
            </a: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1,2,3,6,9,1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02:04:17Z</dcterms:created>
  <dc:creator>Administrator</dc:creator>
  <dc:description/>
  <dc:language>en-US</dc:language>
  <cp:lastModifiedBy>Erin Shafer</cp:lastModifiedBy>
  <dcterms:modified xsi:type="dcterms:W3CDTF">2012-09-03T05:10:14Z</dcterms:modified>
  <cp:revision>26</cp:revision>
  <dc:subject/>
  <dc:title>Multiples and Factors</dc:title>
</cp:coreProperties>
</file>