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D0B-A97B-435A-A8B4-CB2233BF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BAD-7770-484F-9F37-BB35FC03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4F9-8C00-4E3C-B681-6F37C7B4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912-B7DF-41AA-B488-A3C76D83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C2D8-BE2E-41F7-A547-8AF016F4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85B3-602B-4BC3-8510-9195E868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288C-7A06-46A7-ADBF-2D0D7544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DA39-E218-4D5A-B3EB-C8E1B873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D595-0DD2-442F-A925-0FA531C8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0BFF-5D33-4DB6-BBA5-B870367F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BB1A-549D-46A4-984E-7EF129A9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BE5-84B5-4A55-9D2D-54308ED5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77FF-AF3A-4E4F-A891-6EADEEEB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FB5F-9718-4B04-A6C0-DAA9760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B993-DE3D-4C64-9E35-653B885D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A52F-A337-4319-985B-91710CD0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A334-3D84-4175-A0CE-681557FB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238-4010-404F-A3EB-59AE3363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44D-228A-427A-9464-EFE322A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62C-F31A-4CBD-8D9A-D80F57A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554-AF66-4D7E-BA2D-94BD48D5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FFA-7DCD-45AB-AA4B-66E99821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480-3656-4A0B-9C40-4C02340F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6F5-71C7-4D7D-BC99-7C3C5A0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9c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c7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857C-8D57-4FF0-A0D6-60490E1A4E60}" type="slidenum">
              <a:rPr b="0" lang="en-US" sz="1400" spc="-1" strike="noStrike">
                <a:solidFill>
                  <a:srgbClr val="e9c7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My Documents\My Webs\soniacoleman\PowerPoint Templates\Templates6\Black Frame\blackframe_titleframe.jpg"/>
          <p:cNvPicPr/>
          <p:nvPr/>
        </p:nvPicPr>
        <p:blipFill>
          <a:blip r:embed="rId3"/>
          <a:stretch/>
        </p:blipFill>
        <p:spPr>
          <a:xfrm>
            <a:off x="1200240" y="1371600"/>
            <a:ext cx="6877080" cy="211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9c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c7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DF75-8029-4E71-857F-8D5B9B2E7095}" type="slidenum">
              <a:rPr b="0" lang="en-US" sz="1400" spc="-1" strike="noStrike">
                <a:solidFill>
                  <a:srgbClr val="e9c7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ltiples and Factors</a:t>
            </a:r>
            <a:endParaRPr b="0" lang="en-US" sz="5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Lesson 4.1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7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7524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243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533520" y="2819520"/>
            <a:ext cx="16002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57200" y="31240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533520" y="3505320"/>
            <a:ext cx="167616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57200" y="3886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57200" y="426708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57200" y="45720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4952880"/>
            <a:ext cx="17524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57200" y="52578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6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457200" y="563868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57200" y="5867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 x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281952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s works, but it is a repeat. We are done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380880" y="624852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3276720" y="167652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only factors of 7 are 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1,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Prime and Composite Numbe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114800" cy="3581280"/>
          </a:xfrm>
          <a:prstGeom prst="rect">
            <a:avLst/>
          </a:prstGeom>
          <a:noFill/>
          <a:ln w="9360">
            <a:solidFill>
              <a:srgbClr val="3a02e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Prime numbers are 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numbers that only have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two factors: one, and the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number itself.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7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7"/>
                </a:solidFill>
                <a:latin typeface="Arial"/>
              </a:rPr>
              <a:t>3, 5, 7, 11, 31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3581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Composite numbers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have more than two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factors.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, 18, 30, 100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Multiple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A multiple is formed by multiplying a given number by the counting numbers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e counting numbers are 1, 2, 3, 4, 5, 6, etc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9c794"/>
                </a:solidFill>
                <a:uFillTx/>
                <a:latin typeface="Arial"/>
              </a:rPr>
              <a:t>Example: List the multiples of 4: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666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1 = 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2 = 8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3 = 12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4 = 16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5 = 20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6 =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219320" y="6095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unting Numb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Line 5"/>
          <p:cNvSpPr/>
          <p:nvPr/>
        </p:nvSpPr>
        <p:spPr>
          <a:xfrm flipV="1">
            <a:off x="1905120" y="5562360"/>
            <a:ext cx="0" cy="5331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0384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, the multiples of 4 are 4, 8, 12, 16, 20, 24, 28, etc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irst five multiples of 13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85800" y="2057400"/>
            <a:ext cx="1676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1 =1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2 = 26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3 = 3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4 = 5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5 = 65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0400" y="25909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fff7"/>
                </a:solidFill>
                <a:latin typeface="Times New Roman"/>
              </a:rPr>
              <a:t>13, 26, 39, 52, 65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ind the Missing Multiple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6, 12, 18, ____, ____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___, 6, 9, 12, ____, ____, 21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___, 24, 36, 48, 60, ____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50532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8769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371600" y="2895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419720" y="28195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791320" y="281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43000" y="4419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791320" y="4343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acto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actors are the numbers you multiply together to get a product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r example, the product 24 has several factors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1 x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2 x 12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3 x 8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4 x 6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O, the factors are 1, 2, 3, 4, 6, 8, 12,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inding Facto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tart with 1 x the number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ry 2, 3, 4, etc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When you repeat your factors, cross out the repeat - you’re done at this point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If you get doubles (such as 4 x 4), then you’re done.  Repeats or doubles let you know you’re done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16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09480" y="14479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09480" y="2133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09480" y="28195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895480" y="29718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 is not a factor, so cross it ou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609480" y="3124080"/>
            <a:ext cx="18288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609480" y="35812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Line 16"/>
          <p:cNvSpPr/>
          <p:nvPr/>
        </p:nvSpPr>
        <p:spPr>
          <a:xfrm flipH="1">
            <a:off x="2514240" y="39625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267080" y="3733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ubles = don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57200" y="4648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actors of 16 are </a:t>
            </a:r>
            <a:r>
              <a:rPr b="0" lang="en-US" sz="4000" spc="-1" strike="noStrike">
                <a:solidFill>
                  <a:srgbClr val="eded03"/>
                </a:solidFill>
                <a:latin typeface="Arial Black"/>
              </a:rPr>
              <a:t>1,2,4,8,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18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676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23623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7200" y="3048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37339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80880" y="4038480"/>
            <a:ext cx="20574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57200" y="4419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80880" y="4724280"/>
            <a:ext cx="19814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57200" y="5105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6 x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2285640" y="53341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495680" y="5105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peat! Cross it out! We’re done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380880" y="5410080"/>
            <a:ext cx="17528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3809880" y="18288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actors are 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1,2,3,6,9,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2:04:17Z</dcterms:created>
  <dc:creator>Administrator</dc:creator>
  <dc:description/>
  <dc:language>en-US</dc:language>
  <cp:lastModifiedBy>Erin Shafer</cp:lastModifiedBy>
  <dcterms:modified xsi:type="dcterms:W3CDTF">2012-09-03T05:10:14Z</dcterms:modified>
  <cp:revision>26</cp:revision>
  <dc:subject/>
  <dc:title>Multiples and Factors</dc:title>
</cp:coreProperties>
</file>